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D8D-2BF2-44F3-8D78-09AB7766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311-0768-4B4E-A425-BD05F96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9B3-3C40-4360-9C01-1560FAC9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7FF-7374-4692-87AA-DA3039C3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B375-FB07-4EE3-AAE5-9209F390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F487-9AE1-4469-844C-9829DFF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0F4-5E83-4F1D-B325-12A57AD1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791-F394-4032-8A6E-92A8D57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E7D7-DE79-4425-A851-735A1C5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B3F-C544-421A-B687-A9C7B96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C03-1F67-44F3-878F-57D6939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170-A49A-4C15-B333-4C8AD3C8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E6DC-9341-4381-AB9B-657F9540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6579-DB19-498B-8CB5-F975FED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EC0-873F-4F7E-88B3-124FE256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7EC-41D2-4C3E-AEB4-5F03FD7B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FB7-A90E-469C-8879-13799C41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45B-9723-432D-B9AF-95F15B5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572-BE7C-48D9-A441-3539DA4A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90C-A852-4880-8FF3-70BF488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6F0-81A2-4166-9C51-2C250E3D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076-8BB8-4FAB-AD6B-3C46983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C43-034D-4389-A19D-3BCDE09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817-9197-43DF-A5A4-B62FF38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000-4CBF-470F-A3DE-09C8E04602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62E8-E424-4707-AE79-8F896600A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ology.about.com/od/plantbiology/a/aa100507a.htm" TargetMode="External"/><Relationship Id="rId2" Type="http://schemas.openxmlformats.org/officeDocument/2006/relationships/hyperlink" Target="http://biology.about.com/od/plantbiology/a/aa100507a.htm" TargetMode="External"/><Relationship Id="rId3" Type="http://schemas.openxmlformats.org/officeDocument/2006/relationships/hyperlink" Target="http://www.emc.maricopa.edu/faculty/farabee/BIOBK/BioBookflowers.html" TargetMode="External"/><Relationship Id="rId4" Type="http://schemas.openxmlformats.org/officeDocument/2006/relationships/hyperlink" Target="http://www.emc.maricopa.edu/faculty/farabee/BIOBK/BioBookflowers.html" TargetMode="External"/><Relationship Id="rId5" Type="http://schemas.openxmlformats.org/officeDocument/2006/relationships/hyperlink" Target="http://www.emc.maricopa.edu/faculty/farabee/BIOBK/BioBookflowers.html" TargetMode="External"/><Relationship Id="rId6" Type="http://schemas.openxmlformats.org/officeDocument/2006/relationships/hyperlink" Target="http://www.emc.maricopa.edu/faculty/farabee/BIOBK/BioBookflowers.html" TargetMode="External"/><Relationship Id="rId7" Type="http://schemas.openxmlformats.org/officeDocument/2006/relationships/hyperlink" Target="http://www.emc.maricopa.edu/faculty/farabee/BIOBK/BioBookflowers.html" TargetMode="External"/><Relationship Id="rId8" Type="http://schemas.openxmlformats.org/officeDocument/2006/relationships/hyperlink" Target="http://www.emc.maricopa.edu/faculty/farabee/BIOBK/BioBookflowers.html" TargetMode="External"/><Relationship Id="rId9" Type="http://schemas.openxmlformats.org/officeDocument/2006/relationships/hyperlink" Target="http://www.emc.maricopa.edu/faculty/farabee/BIOBK/BioBookflowers.html" TargetMode="External"/><Relationship Id="rId10" Type="http://schemas.openxmlformats.org/officeDocument/2006/relationships/hyperlink" Target="http://www.emc.maricopa.edu/faculty/farabee/BIOBK/BioBookflowers.html" TargetMode="External"/><Relationship Id="rId11" Type="http://schemas.openxmlformats.org/officeDocument/2006/relationships/hyperlink" Target="http://www.emc.maricopa.edu/faculty/farabee/BIOBK/BioBookflowers.html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.discoveryeducation.com/clipart/clip/cutflowr.html" TargetMode="External"/><Relationship Id="rId3" Type="http://schemas.openxmlformats.org/officeDocument/2006/relationships/hyperlink" Target="http://school.discoveryeducation.com/clipart/clip/cutflowr.html" TargetMode="External"/><Relationship Id="rId4" Type="http://schemas.openxmlformats.org/officeDocument/2006/relationships/hyperlink" Target="http://school.discoveryeducation.com/clipart/clip/cutflowr.html" TargetMode="External"/><Relationship Id="rId5" Type="http://schemas.openxmlformats.org/officeDocument/2006/relationships/hyperlink" Target="http://school.discoveryeducation.com/clipart/clip/cutflowr.html" TargetMode="External"/><Relationship Id="rId6" Type="http://schemas.openxmlformats.org/officeDocument/2006/relationships/hyperlink" Target="http://school.discoveryeducation.com/clipart/clip/cutflowr.html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lants and Flowe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5105160" cy="384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1800" y="649116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 courtesy of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http://plants.ifas.ufl.edu/images/senpen/senpen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Bailey (2009) Parts of a flowering plant, Retrieved March 17, 2009 from </a:t>
            </a:r>
            <a:r>
              <a:rPr b="0" lang="en-A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biology.about.com/od/plantbiology/a/aa100507a.</a:t>
            </a:r>
            <a:r>
              <a:rPr b="0" lang="en-A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Farabee (2007) Flowering plant reproduction, Retrieved March 17, 2009 from</a:t>
            </a:r>
            <a:r>
              <a:rPr b="1" lang="en-AU" sz="25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3"/>
              </a:rPr>
              <a:t>http://www.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4"/>
              </a:rPr>
              <a:t>emc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5"/>
              </a:rPr>
              <a:t>.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6"/>
              </a:rPr>
              <a:t>maricopa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7"/>
              </a:rPr>
              <a:t>.edu/faculty/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8"/>
              </a:rPr>
              <a:t>farabee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9"/>
              </a:rPr>
              <a:t>/BIOBK/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10"/>
              </a:rPr>
              <a:t>BioBookflowers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11"/>
              </a:rPr>
              <a:t>.html</a:t>
            </a: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flowers for? Have you ever thought about his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the reproductive part of a plant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other component of the shoot system of a flowering plant is the flow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lower is responsible for seed development and reproduction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talk about reproduction next lesson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cover seed development and dispersal next wee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e are four main flower parts in angiosperms or flowering plant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pa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ta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mens (male par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pels/pistils (female par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90600" y="137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838240" cy="244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Clip art licensed from the Clip Art Gallery on DiscoverySchool.com" 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2"/>
              </a:rPr>
              <a:t>http://school.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3"/>
              </a:rPr>
              <a:t>discoveryeducation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4"/>
              </a:rPr>
              <a:t>.com/clipart/clip/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5"/>
              </a:rPr>
              <a:t>cutflowr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6"/>
              </a:rPr>
              <a:t>.html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 parts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– write down these notes in your book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p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green, leaf-like structure that protects the budding flow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t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colourful and often scented part of the flower that attracts insect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tame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the part of the flower that produces pollen. Consists of a filament and an anth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nth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ac located at the tip of the filament that contains poll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ilame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talk that connects to and holds up the anth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pel/Pisti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consists of the stigma, style, and ovary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tigm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the tip of the carpel that is sticky in order to collect poll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the slender, neck-like portion of the carpel that leads to the ovar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Ovary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tructure at the base of the carpel that houses the ovule or eg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1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 par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a_glossary_flower_parts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709880" cy="609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08640" y="155592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a look at this diagram in the top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ovule becomes fertilized, it develops into a seed. The ovary, which surrounds the seed, becomes the frui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lowers that contain both stamens and carpels are called perfect flowers. Flowers that are missing either stamens or carpels are called imperfect flower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a flower contains all four main parts (sepals, petals, stamens, and carpels), it is called a complete flow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arts of a Flowering Plant: Summ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ummary, angiosperms are differentiated from other plants by their flowers and fru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lowers – Questions for discussion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ink about these questions and we will talk about them at the end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ich part of the flower is female and which part is mal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at are complete flow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at is a type of flower that is imperfect? We will look at one in our practic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at are pollinators? What do petals do? Colourful and showy to attract pollinator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at are the most common colours of flower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y are these colours the most common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w go back to your wiki and print off the method for your practical and the worksheet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doing your practical.  I will help with the practical if you get stuc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have a discussion at the en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e Meszes</cp:lastModifiedBy>
  <dcterms:modified xsi:type="dcterms:W3CDTF">2009-04-30T05:23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